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752D-C89E-45E9-8210-3FB8C2C1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140E-3B8F-4387-B44D-12DF7A8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B3F7-80AF-430A-9EEA-AD00C900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D960-2702-4D51-8253-4467BD1A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902-BAF2-4D1F-99D8-46A10A41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1D40-5959-4C54-8720-93D94B39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993C-B8A9-4E31-9CB0-AC969E4C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8793-0328-4E66-96E1-DC834852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B527-F156-4FAE-8A0E-2A1AC954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4FB-1481-4765-BFB0-ABAC73E1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4AC-BE9B-417E-9221-B26232E6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B489-B526-4303-9B95-93BCCAD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55B3-D784-48C0-AEC1-C40F7EE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BAD-36F6-4564-9C42-28EAAE8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266-2C30-4F95-9DF4-96D0049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B8C9-3D79-4CCB-A865-0F9D62EB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444-6DAF-4480-8221-42E65D9F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C7E1-D206-41DA-8E16-4A946E0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38E9-F1D4-4AFF-9973-ABEAEA8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2998-6A3D-4815-8284-64293A0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5BD4-C94E-4907-B876-5251B82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A6DA-2742-41E1-8396-A3437A5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DBDF-7208-42DF-8710-E92F3B81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0F74-F6EF-4B7A-86B8-1AE1020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AD0C-E6BD-4A84-84EA-8A28E50CF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3F8C-4293-4155-81B6-BBD97D362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ge of Absolutis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’s good to be the King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 Five Causes of Absolut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statements do you agree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A government leader should never have absolute auth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 government leader can exercise absolute authority if it will help advance the country’s econ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A government leader can exercise absolute authority when the country is under att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 A government leader can exercise absolute authority whenever it will advance the country’s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Absolu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t The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hillip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uis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arles I and Oliver Crom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ria The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drick the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Peter and Catherine the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64771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8:48:01Z</dcterms:created>
  <dc:creator>shoyer</dc:creator>
  <dc:description/>
  <dc:language>en-US</dc:language>
  <cp:lastModifiedBy>shoyer</cp:lastModifiedBy>
  <dcterms:modified xsi:type="dcterms:W3CDTF">2007-11-07T19:09:47Z</dcterms:modified>
  <cp:revision>2</cp:revision>
  <dc:subject/>
  <dc:title>Age of Absolutism</dc:title>
</cp:coreProperties>
</file>